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605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4B2D7-CE4E-4633-8EB9-62C06C8C3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56B52B-8189-4339-88BC-99F413BF2BCC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w we have learned EQ/PBL/Assessment – what do we do with it?  How do we go about this shift? How do we pull it all togethe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951E8-9037-4EF7-A3F5-DD5D8B1E59E7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know this – that is why we are doing what we are doing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156557-B533-41C6-917E-2ADE1487BC9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777096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143000" y="4327560"/>
            <a:ext cx="777096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084EAE-D452-4418-81CC-5F7F8E99DE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143000" y="432756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124960" y="432756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918549-7235-4018-AE02-84895C1ADFC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770640" y="180972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397920" y="180972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143000" y="432756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770640" y="432756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397920" y="4327560"/>
            <a:ext cx="250200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A304D9-36AE-4A28-80A8-CA18E68C708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BEE94-40A9-47D7-81BD-CA27A81F4B9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7F30D-C55B-417C-805B-7DC3EE9F92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C4719C-7CAB-4CF0-87B0-D9016C47CD2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55ECF-FC07-4AD3-95A3-24C27CF3C4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142640" y="456840"/>
            <a:ext cx="77612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49FD90-BA5E-491C-97B4-B566D1E4FB8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143000" y="432756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FA53E-1898-45A7-B24C-B65100E68CC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124960" y="432756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AD339-A995-4B24-A85E-5A9757E5CB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24960" y="1809720"/>
            <a:ext cx="379188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43000" y="4327560"/>
            <a:ext cx="7770960" cy="2298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BA6535-8C75-4E7C-B7E1-BA5EB535E9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ad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7237440" y="6397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1E15F-F7DC-48BB-A1E6-BC7B1247C42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db605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82556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16864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16864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168640" indent="-22860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1032"/>
          <p:cNvSpPr/>
          <p:nvPr/>
        </p:nvSpPr>
        <p:spPr>
          <a:xfrm>
            <a:off x="8229600" y="6338880"/>
            <a:ext cx="68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A60A8C-5DB3-46A9-A061-21AB5FF454BC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Rectangle 6"/>
          <p:cNvSpPr/>
          <p:nvPr/>
        </p:nvSpPr>
        <p:spPr>
          <a:xfrm>
            <a:off x="0" y="380880"/>
            <a:ext cx="9144000" cy="441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930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tr-TR" sz="4400" spc="-1" strike="noStrike">
                <a:solidFill>
                  <a:srgbClr val="fdb605"/>
                </a:solidFill>
                <a:latin typeface="Arial"/>
              </a:rPr>
              <a:t>Okul Kültüründe </a:t>
            </a:r>
            <a:br>
              <a:rPr sz="4400"/>
            </a:br>
            <a:r>
              <a:rPr b="1" lang="tr-TR" sz="4400" spc="-1" strike="noStrike">
                <a:solidFill>
                  <a:srgbClr val="fdb605"/>
                </a:solidFill>
                <a:latin typeface="Arial"/>
              </a:rPr>
              <a:t>Değişim</a:t>
            </a:r>
            <a:r>
              <a:rPr b="1" lang="en-US" sz="4400" spc="-1" strike="noStrike">
                <a:solidFill>
                  <a:srgbClr val="fdb605"/>
                </a:solidFill>
                <a:latin typeface="Arial"/>
              </a:rPr>
              <a:t> </a:t>
            </a:r>
            <a:br>
              <a:rPr sz="4400"/>
            </a:br>
            <a:br>
              <a:rPr sz="4400"/>
            </a:b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pic>
        <p:nvPicPr>
          <p:cNvPr id="49" name="Picture 4" descr="intel.tiff"/>
          <p:cNvPicPr/>
          <p:nvPr/>
        </p:nvPicPr>
        <p:blipFill>
          <a:blip r:embed="rId1"/>
          <a:stretch/>
        </p:blipFill>
        <p:spPr>
          <a:xfrm>
            <a:off x="5005440" y="750960"/>
            <a:ext cx="1041480" cy="76176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MEB.tiff"/>
          <p:cNvPicPr/>
          <p:nvPr/>
        </p:nvPicPr>
        <p:blipFill>
          <a:blip r:embed="rId2"/>
          <a:stretch/>
        </p:blipFill>
        <p:spPr>
          <a:xfrm>
            <a:off x="3328920" y="731880"/>
            <a:ext cx="787320" cy="7999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Kitap Banner.jpg"/>
          <p:cNvPicPr/>
          <p:nvPr/>
        </p:nvPicPr>
        <p:blipFill>
          <a:blip r:embed="rId3"/>
          <a:stretch/>
        </p:blipFill>
        <p:spPr>
          <a:xfrm>
            <a:off x="152280" y="1720800"/>
            <a:ext cx="8839440" cy="28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851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Sınıf Kültürünün Değiştirilmesi </a:t>
            </a:r>
            <a:r>
              <a:rPr b="1" lang="en-US" sz="4000" spc="-1" strike="noStrike" u="sng">
                <a:solidFill>
                  <a:srgbClr val="fdb605"/>
                </a:solidFill>
                <a:uFillTx/>
                <a:latin typeface="Arial"/>
              </a:rPr>
              <a:t>: </a:t>
            </a: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Öğrenciler için Yararları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5280" y="1974600"/>
            <a:ext cx="7467840" cy="457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n farklı düzeylerde öğrenmesine izin ver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 Bloom’un Taksonomisindeki üst düzey düşünme becerilerine – analiz, sentez, değerlendirme - eriş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 örüntüleri, yeterlikleri, ilişkileri keşfede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 iletişim ve sorun çözme becerilerini geliştir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parak öğrendikleri için öğrenme daha eğlenceli bir hale dönüşü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aşarı puanları yüksel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83707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Sınıf Kültürünün Değiştirilmesi </a:t>
            </a:r>
            <a:r>
              <a:rPr b="1" lang="en-US" sz="4000" spc="-1" strike="noStrike" u="sng">
                <a:solidFill>
                  <a:srgbClr val="fdb605"/>
                </a:solidFill>
                <a:uFillTx/>
                <a:latin typeface="Arial"/>
              </a:rPr>
              <a:t>: </a:t>
            </a: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Öğretmenler için Yararları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99840" y="1752120"/>
            <a:ext cx="7162920" cy="487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Paha biçilemez bir deneyim sağla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n bireysel kavrayışlarını değerlendirmek için ek zaman yaratı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Farklı öğretim deneyimleri için fırsatlar yaratır – tüm öğrenciler etkileyici bir şekilde katkı sağlar.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tmenler içeriği daha derinlemesine öğren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tme becerilerinin gelişmesi mesleki bir doyum sağla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le etkileşime girmek mutluluk vericid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Sonuçlar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1523880"/>
            <a:ext cx="7391520" cy="4530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üresel ekonominin geleceği bugünün öğretmenlerinin elindedi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rınların çalışanları, karmaşık problemleri rekabetçi bir şekilde işbirliğine dayalı olarak çözebilen ve etkili bir şekilde iletişim kurabilen eleştirel düşünme becerisine sahip bireyler olmalıdır.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rının çalışanları için, sınıf kültüründeki paradigma değişimi çok kritik bir role sahipt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Çabalarınızı destekleyeceğiz ve teşvik edeceğiz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200" spc="-1" strike="noStrike">
                <a:solidFill>
                  <a:srgbClr val="fdb605"/>
                </a:solidFill>
                <a:latin typeface="Arial"/>
              </a:rPr>
              <a:t>Küresel Ekonominin Gerçekleri</a:t>
            </a:r>
            <a:endParaRPr b="1" lang="en-US" sz="32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3" name="Rectangle 4"/>
          <p:cNvSpPr/>
          <p:nvPr/>
        </p:nvSpPr>
        <p:spPr>
          <a:xfrm>
            <a:off x="1328760" y="1676520"/>
            <a:ext cx="6595920" cy="479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5960" indent="-34596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Problemler ve sistemler karmaşıktı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üyük resmi kavramsallaştırabilm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Çoklu çözüm modelleri yaratabilme;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esin doğruya ulaşabilme becerilerine sahip yaratıcı ve kıvrak düşünen bireylere gereksinim duyulmaktadır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rınların problemleri belirsizdir ve bazı beceri grupları tanımsızdı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asıl öğreneceğini ve bilgiyi nasıl yapılandırabileceğini bilen beyinlere ihtiyaç vardır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Kaizen için dur durak bilmeyen bir isteğe ihtiyaç vardı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10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– 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ürekli iyileştirme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– </a:t>
            </a:r>
            <a:r>
              <a:rPr b="1" lang="tr-TR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Yaşamboyu öğrenenler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Dünya pazarı son derece rekabetçidir.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İnsan zekası ana metadır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10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120" y="4568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b605"/>
                </a:solidFill>
                <a:uFillTx/>
                <a:latin typeface="Arial"/>
              </a:rPr>
              <a:t>Paradigm</a:t>
            </a: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a Değişimi Gereklidir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1924200"/>
            <a:ext cx="7924680" cy="386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n ‘nasıl’ öğrendiğine ilişkin düşü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iz nasıl öğretebiliriz yaklaşımından,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doğrudan öğretim ile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bilgileri ezberleter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5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800" spc="-1" strike="noStrike">
                <a:solidFill>
                  <a:srgbClr val="ffffff"/>
                </a:solidFill>
                <a:latin typeface="Arial"/>
              </a:rPr>
              <a:t>öğrenciye sürekli bilgi yükleyerek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n bilgiyi yapılandırma sürecine etkin olarak katıldıkları sorgulamacı yaklaşıma doğru değişmelidir 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Temel Soruların kullanıldığı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2" marL="1308240" indent="-282600">
              <a:lnSpc>
                <a:spcPct val="90000"/>
              </a:lnSpc>
              <a:spcBef>
                <a:spcPts val="4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1600" spc="-1" strike="noStrike">
                <a:solidFill>
                  <a:srgbClr val="ffffff"/>
                </a:solidFill>
                <a:latin typeface="Arial"/>
              </a:rPr>
              <a:t>Proje Temelli Öğrenmenin işe koşulduğu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db605"/>
                </a:solidFill>
                <a:uFillTx/>
                <a:latin typeface="Arial"/>
              </a:rPr>
              <a:t>Paradigm</a:t>
            </a: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a</a:t>
            </a:r>
            <a:r>
              <a:rPr b="1" lang="en-US" sz="4400" spc="-1" strike="noStrike" u="sng">
                <a:solidFill>
                  <a:srgbClr val="fdb605"/>
                </a:solidFill>
                <a:uFillTx/>
                <a:latin typeface="Arial"/>
              </a:rPr>
              <a:t> </a:t>
            </a: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Değişimi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1920" y="1599840"/>
            <a:ext cx="441972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Dü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tm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Merkezde, her şeyi bil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edilg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dinleyicil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Ezb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apalı uçlu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‘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n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’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sorular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ölünmüş öğret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Rekabet odaklı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47960" y="1599840"/>
            <a:ext cx="419076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 u="sng">
                <a:solidFill>
                  <a:srgbClr val="ffffff"/>
                </a:solidFill>
                <a:uFillTx/>
                <a:latin typeface="Arial"/>
              </a:rPr>
              <a:t>Bugün ve Yarı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tm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enarda, yol göstere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etkin katılımcıl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Yapılandırma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Kavramla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ğlamlar ve bağlantıla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Açık uçlu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‘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niç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nasıl’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sorular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Bütünleşik öğreti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İşbirliği odaklı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 u="sng">
                <a:solidFill>
                  <a:srgbClr val="fdb605"/>
                </a:solidFill>
                <a:uFillTx/>
                <a:latin typeface="Arial"/>
              </a:rPr>
              <a:t>Değişimin Başlatılması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33520" y="167616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Değişim bir gecede gerçekleşecek bir şey değildi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ültürler uzun zaman dilimleri içinde geliş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Küçük adımlarla yaklaşmak gereki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-34596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800" spc="-1" strike="noStrike">
                <a:solidFill>
                  <a:srgbClr val="ffffff"/>
                </a:solidFill>
                <a:latin typeface="Arial"/>
              </a:rPr>
              <a:t>Sınıf iletişimi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üzerine odaklanarak başlayın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000" spc="-1" strike="noStrike">
                <a:solidFill>
                  <a:srgbClr val="fdb605"/>
                </a:solidFill>
                <a:latin typeface="Arial"/>
              </a:rPr>
              <a:t>Sorgulama değişimi başlatacaktır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lnSpc>
                <a:spcPct val="9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ğrencilerimizi düşünmeye yöneltecek sorular sormalıyız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– </a:t>
            </a: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rneği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yşe’nin söyledikleri hakkında ne düşünüyorsunu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Söylediklerine katılıyor musunuz yoksa  farklı düşüncede olanlar var mı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ç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Farklı bir yanıtı olan var mı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Yanıtınızın akla yatkın olduğu konusunda herkesi ikna edebilir misiniz?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Bunun tam tersi bir örnek gösterebilir misin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Bu sonuca nasıl vardınız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Açıklamak için bir model ya da resim yapabilir misiniz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Bu her zaman işe yarayacak mı</a:t>
            </a:r>
            <a:r>
              <a:rPr b="1" lang="en-US" sz="2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90000"/>
              </a:lnSpc>
              <a:spcBef>
                <a:spcPts val="524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100" spc="-1" strike="noStrike">
                <a:solidFill>
                  <a:srgbClr val="ffffff"/>
                </a:solidFill>
                <a:latin typeface="Arial"/>
              </a:rPr>
              <a:t>Bunu nasıl kanıtlarsın?</a:t>
            </a:r>
            <a:endParaRPr b="1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456840"/>
            <a:ext cx="776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4400" spc="-1" strike="noStrike">
                <a:solidFill>
                  <a:srgbClr val="fdb605"/>
                </a:solidFill>
                <a:latin typeface="Arial"/>
              </a:rPr>
              <a:t>Daha Fazla Soru</a:t>
            </a:r>
            <a:endParaRPr b="1" lang="en-US" sz="44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143000" y="1809720"/>
            <a:ext cx="7770960" cy="4819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5960" indent="-345960">
              <a:lnSpc>
                <a:spcPct val="80000"/>
              </a:lnSpc>
              <a:spcBef>
                <a:spcPts val="601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400" spc="-1" strike="noStrike">
                <a:solidFill>
                  <a:srgbClr val="ffffff"/>
                </a:solidFill>
                <a:latin typeface="Arial"/>
              </a:rPr>
              <a:t>Örnekler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Eğer … olursa ne olur?  Olmazsa ne olur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ir örnek gördün mü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çin bu yaklaşımı tercih etti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ile bu nasıl ilişkilidir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için bu konuyu öğrenmenin bizim için önemli olduğunu düşünüyorsu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Anlayamadım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…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eyi anlamadını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Nasıl yaptın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Nasıl düşündü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Nasıl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…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 bilmiyorum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ana bununla ilgili bildiğin şeyleri anlatır mısın?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formülünü unuttum 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bunu nasıl çözebiliriz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11160" indent="-393480">
              <a:lnSpc>
                <a:spcPct val="80000"/>
              </a:lnSpc>
              <a:spcBef>
                <a:spcPts val="499"/>
              </a:spcBef>
              <a:buClr>
                <a:srgbClr val="fdb605"/>
              </a:buClr>
              <a:buSzPct val="8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Mehmet, Elife </a:t>
            </a:r>
            <a:r>
              <a:rPr b="1" i="1" lang="tr-TR" sz="2000" spc="-1" strike="noStrike">
                <a:solidFill>
                  <a:srgbClr val="ffffff"/>
                </a:solidFill>
                <a:latin typeface="Arial"/>
              </a:rPr>
              <a:t>bunu niçin yaptığınızı anlatır mısın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? Ahme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2000" spc="-1" strike="noStrike">
                <a:solidFill>
                  <a:srgbClr val="ffffff"/>
                </a:solidFill>
                <a:latin typeface="Arial"/>
              </a:rPr>
              <a:t>aynı fikirde misin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5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db605"/>
                </a:solidFill>
                <a:uFillTx/>
                <a:latin typeface="Arial"/>
              </a:rPr>
              <a:t>Sınıf Kültürünün Değiştirilmesi</a:t>
            </a:r>
            <a:r>
              <a:rPr b="1" lang="en-US" sz="3600" spc="-1" strike="noStrike" u="sng">
                <a:solidFill>
                  <a:srgbClr val="fdb605"/>
                </a:solidFill>
                <a:uFillTx/>
                <a:latin typeface="Arial"/>
              </a:rPr>
              <a:t>: </a:t>
            </a: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Temel İlkeler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Öğretmen ve öğrenciler saygılı dinleyicilerdi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tüm katkılar değerlidi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hatta hatalar bile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(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izler çoğunlukla hatalarımızdan öğreniriz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)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Katılımcılar diğerlerine katkı sağlayarak diğerlerinin düşüncelerini açıklar ve geliştiri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Herkesin öğrenmesi için herkes sorumluluk alır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3600" spc="-1" strike="noStrike" u="sng">
                <a:solidFill>
                  <a:srgbClr val="fdb605"/>
                </a:solidFill>
                <a:uFillTx/>
                <a:latin typeface="Arial"/>
              </a:rPr>
              <a:t>Sınıf Kültürünün Değiştirilmesi</a:t>
            </a:r>
            <a:r>
              <a:rPr b="1" lang="en-US" sz="3600" spc="-1" strike="noStrike" u="sng">
                <a:solidFill>
                  <a:srgbClr val="fdb605"/>
                </a:solidFill>
                <a:uFillTx/>
                <a:latin typeface="Arial"/>
              </a:rPr>
              <a:t>: </a:t>
            </a:r>
            <a:r>
              <a:rPr b="1" lang="tr-TR" sz="4000" spc="-1" strike="noStrike" u="sng">
                <a:solidFill>
                  <a:srgbClr val="fdb605"/>
                </a:solidFill>
                <a:uFillTx/>
                <a:latin typeface="Arial"/>
              </a:rPr>
              <a:t>Temel İlkeler</a:t>
            </a:r>
            <a:endParaRPr b="1" lang="en-US" sz="4000" spc="-1" strike="noStrike">
              <a:solidFill>
                <a:srgbClr val="fdb605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azen öğrenciler akranlarıyla (birebir), küçük gruplarda ve tüm sınıfla birlikte çalışırlar.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azen diğer araçlarla (oyunlar, araştırma, teknoloji, vb.) öğrenmek daha da kolay olabilir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db605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Bazen doğrudan öğretim en iyi yöntem olabilir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; </a:t>
            </a:r>
            <a:r>
              <a:rPr b="1" lang="tr-TR" sz="2800" spc="-1" strike="noStrike">
                <a:solidFill>
                  <a:srgbClr val="ffffff"/>
                </a:solidFill>
                <a:latin typeface="Arial"/>
              </a:rPr>
              <a:t>geçerli durumda en iyi yöntemi etkili bir şekilde kullanma gereksinimi – öğrenci ihtiyaçlarının dikkate alınması 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04T01:49:56Z</dcterms:created>
  <dc:creator>Shelley Shott</dc:creator>
  <dc:description/>
  <dc:language>en-US</dc:language>
  <cp:lastModifiedBy>Levent SAGIROGLU (BilgeAdam)</cp:lastModifiedBy>
  <dcterms:modified xsi:type="dcterms:W3CDTF">2009-11-02T20:55:10Z</dcterms:modified>
  <cp:revision>439</cp:revision>
  <dc:subject/>
  <dc:title>Slide 1</dc:title>
</cp:coreProperties>
</file>